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C0C-47BC-41B8-B31E-11E7BAC1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4E3-2DD4-4256-BC7D-0DE62981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910-E495-4729-9103-A742E983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B23-4DB4-41DC-82FC-7D8198F2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2CA-888B-4151-85F1-7AA6FEFA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F5E-30BE-44F7-9EAC-68E31B8B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2D8-FFBB-4153-93A8-0047CE34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5B5-F0FA-4489-93CC-CFE25699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9FD-52E6-449C-BDE5-9A0B47AF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64C-3127-4E00-B1EC-88F37B0C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6FA-E9AF-4E4B-AFED-A4D453CE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857-6B0E-49E9-ADF4-30B60F86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0F6B-8873-4EB6-BB0A-4FE640360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1-03T00:43:31Z</dcterms:modified>
  <cp:revision>28</cp:revision>
  <dc:subject/>
  <dc:title>Slide 1</dc:title>
</cp:coreProperties>
</file>